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D8D1-501C-40DA-83FB-29F92219BA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4368-CC56-4EA0-B739-BF62CE52814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539B-4C8E-4B7A-837A-8935DCC65FD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ECFC8-F229-4553-AD28-BC004FE8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94ED9-7EF9-4615-8FB8-299B4033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BFC6B-74C1-4EFB-922E-72E57F3E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F941B-AD79-44EA-BC4F-9AC829F8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2EAEE-4866-450B-9ED0-F0D823C1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D0A7A-BA6F-4F95-A8FE-C8DD0CE1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16D6B-EC41-46C0-BACD-D1DCF5E1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196DE-A9A3-4DE4-8462-3D01C332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32FE3-8E0F-4AC4-966C-00FC93E3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15670-6BE6-46F3-8D86-9C2E65E3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5FFE6-F33A-4E24-BDFD-3FEDDC23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7693D-94FA-4358-A2CA-9BD1D9E6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EDE1F8-2965-4BC9-B171-FF5DE566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AEF0A-A299-4A86-A99E-AA275AA2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046631-5E6F-48A3-AFC1-D245B3F3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1E092-9E11-4EC6-9B33-3E56A231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0B5FC4-20D6-4C9B-92B3-262FEAAF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49A40-BCB9-4CB0-84B1-6CC95B9E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A609B-33FA-4A80-8873-C341667F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0C1BF-F1DB-49D3-BFA2-405AAE44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F1F3A9-59EE-4AD7-8E7B-D255D328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EC2051-BB5C-471B-A3EF-F02FF7C4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8A5B7B-F117-4D81-9574-E64753F0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F9331-7DE9-46C8-B6D1-34B7385C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D88F-A61F-4B30-810A-3A71E26A09F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183A-1CA0-4070-915E-B52695E3996A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E9B9-0C5A-496D-8FBC-66F15A83499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5998-4C25-4006-8604-809C5306EF4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7049-7C60-4FE4-8434-A19857C749D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2182-422F-45A9-8752-6624840EB47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2F84-D531-4ABC-A0EC-FAFF37CB60E9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43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.76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2.3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38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0.3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9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.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계 변화와 인상＋고비용 치료기기 도입 등의 병원비용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1809000"/>
              <a:chOff x="285480" y="3486240"/>
              <a:chExt cx="8572680" cy="180900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1080"/>
                <a:ext cx="8572680" cy="13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건강문제로 인한 비용은 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407200"/>
              <a:ext cx="5796000" cy="1249200"/>
              <a:chOff x="0" y="5407200"/>
              <a:chExt cx="5796000" cy="124920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0" y="5407200"/>
                <a:ext cx="1390680" cy="12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1312920" y="6085080"/>
                <a:ext cx="448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점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어 있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4.0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.9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시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당뇨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 등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3.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2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2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9.9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알츠하이머병 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자살에 의한 사망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1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명당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3.7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는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46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세 이상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7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으로 높아짐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생활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5.6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2.0%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-7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는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4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 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3040"/>
                <a:chOff x="357120" y="1500120"/>
                <a:chExt cx="8643960" cy="227304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96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돌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介護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형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24:25Z</dcterms:modified>
  <cp:revision>2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